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7574-0DD8-4594-802D-E97CBB0A9E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BA06-117C-458D-BEC8-FB1CB96B4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3B01-1BB8-448D-BF47-60E66076B038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4752-65D3-480E-8897-B2BBE668C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7447-E57C-491F-8FA9-DDB97A96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F26B-C850-4CCC-B422-13A29105F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48CB-B96F-4A3B-8353-865B757C8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8F0F-3533-4DAC-A0E6-DF2262497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9F79-D552-4F95-B978-CEB8B40D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FA540-10EF-4FDC-B0AE-3021588A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71AA4-5E3B-4C7C-9F4B-478F9F82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2044-8CF8-49A0-92CA-B4371303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D948-2495-49E9-A024-567A6740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D3F9-7FC8-47CA-A27A-853EA9FB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BFE5-CA08-4D39-B47E-DA7EF74B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AE84-D8B7-4591-B3B2-0471EBF4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14D0-4FEB-4B62-B9CB-A102E5D3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3FBD-ECAC-4462-8C13-94E79F3F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584DF-C5F6-4D21-BE6A-1A8FA21A0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1289-157D-448E-92D9-F8574E95E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E5DA-6D39-4D49-A729-E4A7289A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DD23-DE2B-4689-AB7A-AADD3458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6FF5-DDC9-41C3-B6A3-700BD52A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6FC8-ED89-4830-88F8-A4454698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07A0-7D76-4E63-B2BA-F7C30909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BF51-69B7-477C-9659-23CE3F56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6A0B-4CDD-4548-9CBD-655119FE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prstGeom prst="pie">
            <a:avLst/>
          </a:pr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prstGeom prst="pie">
            <a:avLst/>
          </a:pr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8DAF-610E-4AA2-A1F3-4F4729DF2F3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prstGeom prst="pie">
            <a:avLst/>
          </a:pr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prstGeom prst="pie">
            <a:avLst/>
          </a:pr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prstGeom prst="pie">
            <a:avLst/>
          </a:pr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01E1-ABD8-4DEF-A65C-0D7D97DFF87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4KrIMZpwCY&amp;safety_mode=true&amp;persist_safety_mode=1" TargetMode="External"/><Relationship Id="rId2" Type="http://schemas.openxmlformats.org/officeDocument/2006/relationships/hyperlink" Target="http://www.youtube.com/watch?v=S4KrIMZpwCY&amp;safety_mode=true&amp;persist_safety_mode=1" TargetMode="External"/><Relationship Id="rId3" Type="http://schemas.openxmlformats.org/officeDocument/2006/relationships/hyperlink" Target="http://www.youtube.com/watch?v=S4KrIMZpwCY&amp;safety_mode=true&amp;persist_safety_mode=1" TargetMode="External"/><Relationship Id="rId4" Type="http://schemas.openxmlformats.org/officeDocument/2006/relationships/hyperlink" Target="http://www.youtube.com/watch?v=S4KrIMZpwCY&amp;safety_mode=true&amp;persist_safety_mode=1" TargetMode="External"/><Relationship Id="rId5" Type="http://schemas.openxmlformats.org/officeDocument/2006/relationships/hyperlink" Target="http://www.youtube.com/watch?v=S4KrIMZpwCY&amp;safety_mode=true&amp;persist_safety_mode=1" TargetMode="Externa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EymUbVrbgw&amp;feature=youtube_gdata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Yi6M721S5E&amp;safety_mode=true&amp;persist_safety_mode=1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O50gMfqe0lM&amp;feature=related&amp;safety_mode=true&amp;persist_safety_mode=1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rLObtDvsa8&amp;safety_mode=true&amp;persist_safety_mode=1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VVL8ptff7yI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6QJy2r7mMNY&amp;safety_mode=true&amp;persist_safety_mode=1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2286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r>
              <a:rPr b="0" lang="en-US" sz="8000" spc="-1" strike="noStrike">
                <a:solidFill>
                  <a:srgbClr val="ebd189"/>
                </a:solidFill>
                <a:latin typeface="Arial"/>
              </a:rPr>
              <a:t>Inventions</a:t>
            </a:r>
            <a:br>
              <a:rPr sz="8000"/>
            </a:br>
            <a:r>
              <a:rPr b="0" lang="en-US" sz="8000" spc="-1" strike="noStrike">
                <a:solidFill>
                  <a:srgbClr val="ebd189"/>
                </a:solidFill>
                <a:latin typeface="Arial"/>
              </a:rPr>
              <a:t> of the </a:t>
            </a:r>
            <a:br>
              <a:rPr sz="8000"/>
            </a:br>
            <a:r>
              <a:rPr b="0" lang="en-US" sz="8000" spc="-1" strike="noStrike">
                <a:solidFill>
                  <a:srgbClr val="ebd189"/>
                </a:solidFill>
                <a:latin typeface="Arial"/>
              </a:rPr>
              <a:t>Industrial Revolution</a:t>
            </a:r>
            <a:br>
              <a:rPr sz="8000"/>
            </a:br>
            <a:br>
              <a:rPr sz="8000"/>
            </a:br>
            <a:r>
              <a:rPr b="0" lang="en-US" sz="1800" spc="-1" strike="noStrike">
                <a:solidFill>
                  <a:srgbClr val="ebd189"/>
                </a:solidFill>
                <a:latin typeface="Arial"/>
              </a:rPr>
              <a:t>http://www.youtube.com/watch?v=1d_RFQn-_rM&amp;safety_mode=true&amp;persist_safety_mode=1 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Model 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vented by Henry For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vented in 1925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enry Ford also invented the assembly lin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3"/>
              </a:rPr>
              <a:t>=S4KrIMZpwCY&amp;safety_mode=</a:t>
            </a: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4"/>
              </a:rPr>
              <a:t>true&amp;persist_safety_mode</a:t>
            </a: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5"/>
              </a:rPr>
              <a:t>=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Kodak Camer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vented by George Eastma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vented in 189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ttp://www.youtube.com/watch?v=ERco3sw43QM&amp;feature=rel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ires (vulcanized rubber)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vented by Charles Goodyea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vented in 184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ttp://www.youtube.com/watch?v=Mf8Icjt5smc&amp;feature=rel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un Video Overview!!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ttp://www.youtube.com/watch?v=-8wuGRlRZqk&amp;safety_mode=true&amp;persist_safety_mode=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IG QUESTION?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Quick Write!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What was the most significant invention during the Industrial Revolution? Why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United States Patent Offi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eople who thought up new and useful inventions registered them at this office and called them Pat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Patent prohibits anyone else from using, making or selling the invention without the inventors permis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round the 1870’s, 23,500 patents were registered per year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dustrial Revolution Inven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t up your paper like thi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676520" y="2514600"/>
          <a:ext cx="6933960" cy="3429000"/>
        </p:xfrm>
        <a:graphic>
          <a:graphicData uri="http://schemas.openxmlformats.org/drawingml/2006/table">
            <a:tbl>
              <a:tblPr/>
              <a:tblGrid>
                <a:gridCol w="1733400"/>
                <a:gridCol w="1733760"/>
                <a:gridCol w="1733400"/>
                <a:gridCol w="173340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vento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ventio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ate invented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ignificance in history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2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aeae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aeae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aeae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aeaea">
                        <a:alpha val="20000"/>
                      </a:srgbClr>
                    </a:solidFill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aeae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aeae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aeae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aeaea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Steam Engin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vented by James Wat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vented in 1876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www.youtube.com/watch?v=MEymUbVrbgw&amp;feature=youtube_gda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Cotton Gi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vented by Eli Whitne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atent registered in 179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www.youtube.com/watch?v=tYi6M721S5E&amp;safety_mode=true&amp;persist_safety_mode=1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Sewing Machin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696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vented by Isaac Sing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atented in 185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www.youtube.com/watch?v=O50gMfqe0lM&amp;feature=related&amp;safety_mode=true&amp;persist_safety_mode=1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Telephon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vented by Alexander Graham Bel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gistered in 1876 (also when the First Phone Call happened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www.youtube.com/watch?v=TrLObtDvsa8&amp;safety_mode=true&amp;persist_safety_mode=1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Light Bulb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2392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vented by Thomas Edis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atented in 188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www.youtube.com/watch?v=VVL8ptff7y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Airplan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vented by Orville and Wilbur W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vented in 190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www.youtube.com/watch?v=6QJy2r7mMNY&amp;safety_mode=true&amp;persist_safety_mode=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00:38:19Z</dcterms:created>
  <dc:creator>Staff</dc:creator>
  <dc:description/>
  <dc:language>en-US</dc:language>
  <cp:lastModifiedBy>Information Technology</cp:lastModifiedBy>
  <dcterms:modified xsi:type="dcterms:W3CDTF">2011-04-19T16:58:50Z</dcterms:modified>
  <cp:revision>23</cp:revision>
  <dc:subject/>
  <dc:title>Results of the Industrial Revolu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